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hammer.wav" ContentType="audio/x-wav"/>
  <Override PartName="/ppt/media/cashreg.wav" ContentType="audio/x-wav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C1F-1767-4947-A188-FB8CD3CE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894-B5B0-4B4F-A828-65F59471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8BC-9082-4498-8E5C-3647522A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E145-C529-4DBD-A438-85845CCB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54D-A673-499A-8F0A-080FD691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89D-4D6C-4E1D-9525-8A2F52B7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65D-2A82-4E85-93D8-F43A471F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94F8-84A1-4090-975F-A8130061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A22-BB82-4250-9B82-5D4CFC84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396-AB82-4A7C-988E-2C18EA1E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909-6107-426E-B831-B5037A64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98C-038A-444F-8768-3D3528FA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e8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A0F3-B903-45FA-825E-B3DAE321F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u"/>
    <p:sndAc>
      <p:stSnd>
        <p:snd r:embed="rId2" name="hamm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ичная структура белковой молекулы образуется за счет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1)  пептидных связе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2)  водородных связе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3)  дисульфидных мостик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4)  электростатического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тя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762120" y="2286000"/>
            <a:ext cx="5790960" cy="685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зрушение третичной  структуры белка – это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1)  изомеризац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2)  дегидратац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3)  дегенерац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4)  денатура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838080" y="4876920"/>
            <a:ext cx="4343400" cy="685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натурация белков </a:t>
            </a: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не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исходит при: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нагревани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действии тяжелых металл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 растворении в вод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 действии этилового спи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80880" y="4495680"/>
            <a:ext cx="6019920" cy="685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ктивом на белок является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 Br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pаствоp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 HNO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онц.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  лакмус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аммиачном раств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33520" y="3124080"/>
            <a:ext cx="3657600" cy="7621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чественной реакцией на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лок является: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реакция бромирова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ксантопротеинова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кц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 реакция с индикаторо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 реакция серебряног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ерк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80880" y="3809880"/>
            <a:ext cx="8077320" cy="685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2" name="hammer.wav"/>
      </p:stSnd>
    </p:sndAc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Аминокислоты и бел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219320" y="5257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становите соответстви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рмула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N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578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ласс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A) спир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альдег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кет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) карбоновые 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) амино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) 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04920" y="2209680"/>
            <a:ext cx="3429000" cy="6098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5181480" y="3962520"/>
            <a:ext cx="2971800" cy="99036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04920" y="2895480"/>
            <a:ext cx="2819160" cy="60984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5257800" y="2133720"/>
            <a:ext cx="2057400" cy="53316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304920" y="3581280"/>
            <a:ext cx="4343400" cy="60984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5181480" y="5105520"/>
            <a:ext cx="3353040" cy="4572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304920" y="4267080"/>
            <a:ext cx="2361960" cy="6098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5181480" y="5715000"/>
            <a:ext cx="1981440" cy="4572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тановите соответств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86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звание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ала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бу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метан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метан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0240" y="159984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ласс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альдег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пи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амино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алк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) дие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) ар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685800" y="2286000"/>
            <a:ext cx="2209680" cy="5335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4724280" y="3657600"/>
            <a:ext cx="3886200" cy="5335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685800" y="2971800"/>
            <a:ext cx="1905120" cy="5335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4724280" y="4343400"/>
            <a:ext cx="2362320" cy="5335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685800" y="3657600"/>
            <a:ext cx="2743200" cy="53352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4724280" y="2286000"/>
            <a:ext cx="3124440" cy="53352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685800" y="4343400"/>
            <a:ext cx="2514600" cy="53352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4724280" y="2971800"/>
            <a:ext cx="2438640" cy="53352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щество, формула которого N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COOH, проявляет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мфотерные свойств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2)  только свойства органическ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ислот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3)  только свойства органическог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4)  не проявляет ни кислотных, н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х сво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533520" y="2057400"/>
            <a:ext cx="7467480" cy="609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мфотерные свойства аминоуксусной кислоты подтверждаются ее взаимодействием с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  кислотами и солям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  щелочами и спиртам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  кислотами и щелочам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 спиртами и сол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295280" y="4952880"/>
            <a:ext cx="7315200" cy="6098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ислотные свойства проявляет каждое из двух веществ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HClO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OH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C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C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 N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286000" y="2895480"/>
            <a:ext cx="5257800" cy="7621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минокислоты </a:t>
            </a: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н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реагируют ни с одним из двух веществ: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 NaOH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) 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a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 NaCl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 N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600200" y="4495680"/>
            <a:ext cx="3581280" cy="7621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миноуксусную кислоту можно получить в одну стадию из кислоты, название которой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 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ксусна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 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лоруксусна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 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пионова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 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-хлорпропион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600200" y="4038480"/>
            <a:ext cx="4800600" cy="685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химии</cp:lastModifiedBy>
  <dcterms:modified xsi:type="dcterms:W3CDTF">2015-04-10T04:27:1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